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BA9-8539-4B77-8CAB-2FD8152CC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47E-0B29-4754-8A18-90509E01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There are as many different styles and forms of debates as there are debta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69D-FCB2-4878-8422-554115F6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be the most effective, you need to make strong, solid points about your topic, but you also need to take apart your opponents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E05-6FE3-4175-A801-0DD0D4BD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a strategy worked out for your side ahead of time will definitely help you win your debate by being unified and prepared enough to stay col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4F4-904F-4C07-A1C4-D5A988092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FD2-E94B-4630-A58F-F538B5EF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B8F-B15B-4139-B96D-344DFC4F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5E8F-43A8-4236-8CE5-D813CB9C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Getting angry, flustered, nervous, upset, or breaking down in any way WILL affect how others see you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Always remember that people rarely decide what side of a formal debate they will argue, so they may not be defending their own views: do not attack your opponent, attack their argument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5F9-D085-427F-AE77-175E0AA9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speak clearly: the general rule for public speaking is to speak half as fast and twice as loud as you usually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7C8B-988C-4591-A6E4-4EF95D3D5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067A-E44E-43F4-A86A-376FEF878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are presenting an informed position, being proven wrong is damaging and embarrassing, things everyone wants to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n exciting speaker, be animated, monotone or dry speaking will bore your audience, not win them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ating is equal parts Substance and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37A-CBFC-42D8-8E0D-7BBD461A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do not insult or offend with your anecdotes / jokes, they can be very powerful tools when used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FDE5-2F0D-463B-83E9-47927C66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494-D8EE-4C32-A175-21E0CB67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and being ready for time constraints will make you appear better organized for your debate, it will also make you less nervous about speaking public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386-0613-46DF-932B-160598D3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FF3-6177-4A35-A684-2C4730E2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B5B-75AC-44DE-AEE6-42FF7299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BB4-291D-4405-B305-ACCC7AF9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9B9-4A5B-417A-B119-C9A7228E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4AF-247F-4490-9B95-C99BFBE6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8A6-F4E5-4C3C-A3F3-E74B124F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27A-49B9-4763-9D01-75A93AF6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D42-B9DC-4CCA-BF13-9005DB8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282-133E-457C-AEA9-F07C5A2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EB6-0670-4C9A-B5BA-80CD831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D71-878B-4C8D-9054-84952F5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94E-2E6C-4DC9-90A5-5F24046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5638-7DB4-43BA-BAAD-9632C8920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bating Tips and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68580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ways to structure a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different strategies for participating in debates, today, we will look at some of thes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22860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member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09680" y="2438280"/>
            <a:ext cx="60199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rgument that you do not address in a rebuttal will be left in the memory of others as your opponents stated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wise, any rebuttal from your opponents that you do not address will also be left in the minds of your audience / ju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Object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39536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2000" cy="39272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515120" cy="3927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what your partner(s) plan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alone and risk being redundant, make the most of your team’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276720" y="380880"/>
            <a:ext cx="533376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recycle information in your closing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e closing speaker(s) should sum up all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relevant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arguments and rebuttals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without 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introducing any new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6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GS.AVI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572000" y="0"/>
            <a:ext cx="4191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ollow these tips and suggestions, and everything will come together for a successful debate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3333cc"/>
                </a:solidFill>
                <a:latin typeface="Times New Roman"/>
              </a:rPr>
              <a:t>THE EN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Deb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your emotions get the better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calm and speak in a clear, rational v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baters do not always choose what side they’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52578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n't 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914400" y="3808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457200"/>
            <a:ext cx="7619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mportant: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43000" y="2819520"/>
            <a:ext cx="6629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peaker in a debate must make sure that the resolution being debated is clearly stated and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de track your opponents with irrelevant points, stay on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2712960" cy="5749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380880"/>
            <a:ext cx="48006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ack your op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 to your planned, researched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 cards can help a debater to stay focused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from them, use them as a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o the audience or mod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2"/>
          <a:stretch/>
        </p:blipFill>
        <p:spPr>
          <a:xfrm>
            <a:off x="6227640" y="3276720"/>
            <a:ext cx="291636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48120" y="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19520" y="4572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roughly research your topic and position, the best start to squashing a rebuttal is a well researched, well designed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7200" y="3352680"/>
            <a:ext cx="5257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ply state f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ath to being a dull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tating sources or not backing up statements can lead to heavy rebuttal from your op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092400" cy="3282840"/>
          </a:xfrm>
          <a:prstGeom prst="rect">
            <a:avLst/>
          </a:prstGeom>
          <a:ln w="0">
            <a:noFill/>
          </a:ln>
        </p:spPr>
      </p:pic>
      <p:pic>
        <p:nvPicPr>
          <p:cNvPr id="66" name="Object 4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132360" cy="369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humor and / or anecdotes in your spea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xamples helps illustrate your position, and uses an argumen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 or jokes that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ppropr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very invol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IMPORT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lock.avi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828800" y="46483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ME IS A VERY IMPORTANT FACTOR IN A DEBATE………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3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3"/>
          <a:stretch/>
        </p:blipFill>
        <p:spPr>
          <a:xfrm>
            <a:off x="0" y="3048120"/>
            <a:ext cx="289548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5" descr=""/>
          <p:cNvPicPr/>
          <p:nvPr/>
        </p:nvPicPr>
        <p:blipFill>
          <a:blip r:embed="rId4"/>
          <a:stretch/>
        </p:blipFill>
        <p:spPr>
          <a:xfrm>
            <a:off x="7696080" y="2930400"/>
            <a:ext cx="1447920" cy="392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00400" y="2286000"/>
            <a:ext cx="3962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ware of time constraints, if there are 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initial speech so you will be “on top” of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what it feels like to speak for the allotted length of time, speaking too much or not enough weakens you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74320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133720" y="3962520"/>
            <a:ext cx="4495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appropriate language or ges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ll ignore your information if not presented in an appropriate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71800" y="0"/>
            <a:ext cx="5791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y to “juggle” too many points at once. State your ideas in a logical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speaking, the less nervous you will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7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4:43:58Z</dcterms:created>
  <dc:creator>Student</dc:creator>
  <dc:description/>
  <dc:language>en-US</dc:language>
  <cp:lastModifiedBy>Kirby Vincent</cp:lastModifiedBy>
  <cp:lastPrinted>2001-02-28T17:49:37Z</cp:lastPrinted>
  <dcterms:modified xsi:type="dcterms:W3CDTF">2012-04-02T09:10:52Z</dcterms:modified>
  <cp:revision>5</cp:revision>
  <dc:subject/>
  <dc:title>Debating Tips and Strategies</dc:title>
</cp:coreProperties>
</file>